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773-D511-4C87-B835-61C98CD8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AE2-5371-45C0-8FC1-ED42B03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468-9311-4C04-9558-1EDB50E7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E0C-1D30-42D6-8E47-311E9BBF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B2C-DBCC-4233-8095-3B487796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032-9563-4AD6-9553-BDE8406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942-5A06-4476-894A-EB8F4DE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FCE-32B2-4609-9B30-3DD9EC87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47D-738E-4925-9337-450B335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79B-90EF-4D20-B48F-A78A31D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231-7A4C-4EDA-BB43-8C1679A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0A6-9ED5-4040-A71D-EBC7A78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9574-F41E-4895-B427-9062F62B4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a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THE CYCLO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vention of the cyclotron, physicists were limited to naturally emitted alpha particles from reactions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rry out nuclear reactions. The cyclotron created a way accelerate particles much more quickly than the natural emission to broaden the range of experiments that can be done, especially those in regard to artificial radioactiv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 PRIZE OF 1939: ERNEST  LAW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3200400"/>
            <a:ext cx="2514600" cy="29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otron uses a constant homogeneous magnetic field and a oscillating electric field with a constant frequency to accelerate particles through a circular path of increasing radi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gap of the dees, the electric field changes to accelerate the particle through the g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gnetic field serves to create a circular path for the p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 "/>
          <p:cNvPicPr/>
          <p:nvPr/>
        </p:nvPicPr>
        <p:blipFill>
          <a:blip r:embed="rId1"/>
          <a:stretch/>
        </p:blipFill>
        <p:spPr>
          <a:xfrm>
            <a:off x="3581280" y="1752480"/>
            <a:ext cx="1447920" cy="238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17152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281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7:10:30Z</dcterms:created>
  <dc:creator>Kuhlly</dc:creator>
  <dc:description/>
  <dc:language>en-US</dc:language>
  <cp:lastModifiedBy>Kuhlly</cp:lastModifiedBy>
  <dcterms:modified xsi:type="dcterms:W3CDTF">2013-10-06T17:52:45Z</dcterms:modified>
  <cp:revision>2</cp:revision>
  <dc:subject/>
  <dc:title>Slide 1</dc:title>
</cp:coreProperties>
</file>